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9.wmf" ContentType="image/x-wm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C290-E149-43F7-9DEF-F95ECE1F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A7ED-9F9A-4FCD-83F5-3591287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12CE-8EA8-4EC6-9D06-32613A2D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B99D-E131-46AD-9C7B-A1B677B3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772B-23BE-4222-BA4F-378A7789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880D-6CDF-443F-B4A6-92F24727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0E6-560B-4FE2-91EA-9A5FDDD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9D4B-B1DA-46E2-816A-F6D79E31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8F58-356F-4607-88F1-19D07FC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DD2-11E3-4B16-A134-539A4BF9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135-289A-4178-BF58-0CDB68B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48EF-6D6D-4DC9-83C0-6F4AB81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E1D0-D291-45CA-8E71-E4A90C73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4D2E-CCDA-4B3D-A6E6-52FC675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C769-3E5B-4965-8F1F-961529D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412B-6D70-4EE2-89F0-F78402E1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F61D-18A9-4A02-B6CA-08C94738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ECC5-82B0-4C0D-98D1-483FFB8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B543-2740-4413-A4CC-28B6CFC7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6388-0F9A-4D87-AC5C-F67DDC4B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F91B-CA43-4755-B6AB-AC5F49A2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C226-D6C6-44F0-8472-A1BF354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9A2D-30D0-4786-8128-7AD769D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7FD5-1E28-43BA-B146-63CAB9D6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44FD-F714-441E-B5BA-49838015278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80DB-6BF5-4658-BE8E-D7946B12CD3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208080" y="2405160"/>
            <a:ext cx="99219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اء الموصولة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1341360"/>
            <a:ext cx="61200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cc3399"/>
                </a:solidFill>
                <a:latin typeface="Tahoma"/>
                <a:cs typeface="Traditional Arabic"/>
              </a:rPr>
              <a:t>انتهى الدرس</a:t>
            </a:r>
            <a:br>
              <a:rPr sz="9700"/>
            </a:br>
            <a:endParaRPr b="0" lang="en-US" sz="97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7" name="Picture 6" descr="147859654"/>
          <p:cNvPicPr/>
          <p:nvPr/>
        </p:nvPicPr>
        <p:blipFill>
          <a:blip r:embed="rId1"/>
          <a:stretch/>
        </p:blipFill>
        <p:spPr>
          <a:xfrm>
            <a:off x="2771640" y="3213000"/>
            <a:ext cx="399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</a:t>
            </a:r>
            <a:br>
              <a:rPr sz="6600"/>
            </a:b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ـا هـي ؟ </a:t>
            </a:r>
            <a:endParaRPr b="0" lang="en-US" sz="6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8" name="Picture 8" descr="418arabsvip_com"/>
          <p:cNvPicPr/>
          <p:nvPr/>
        </p:nvPicPr>
        <p:blipFill>
          <a:blip r:embed="rId2"/>
          <a:stretch/>
        </p:blipFill>
        <p:spPr>
          <a:xfrm>
            <a:off x="7075440" y="4975200"/>
            <a:ext cx="2068560" cy="18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agesCAVEYGXS"/>
          <p:cNvPicPr/>
          <p:nvPr/>
        </p:nvPicPr>
        <p:blipFill>
          <a:blip r:embed="rId3"/>
          <a:stretch/>
        </p:blipFill>
        <p:spPr>
          <a:xfrm>
            <a:off x="1403280" y="3429000"/>
            <a:ext cx="2100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80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فهوم الاسم الموصول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 سهرت من أجل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للجملة السابقة معنى تام ؟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بقيت الجملة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ما الكلمة التي جعلت الجملة غير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كلمة ( التي) أهي اسم ،أم فعل ،أم حرف؟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الاسم ( التي ) له معنى ودلالة واضحة بمفرده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24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يحتاج الاسم ( التي ) إلى وصله بجملة بعده توضح دلالته وتتم معناه 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 نعم ، فمعناه مرتبط وموصول بالجملة التي بعده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2771640" y="1844640"/>
            <a:ext cx="4319640" cy="5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54000" tIns="0" bIns="1800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أُحِبُّ أ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788000" y="234936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نعم</a:t>
            </a:r>
            <a:r>
              <a:rPr b="0" lang="ar-SA" sz="1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63528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012000" y="2923920"/>
            <a:ext cx="2449440" cy="430200"/>
          </a:xfrm>
          <a:prstGeom prst="flowChartOnlineStorag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8000" y="3716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الت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195640" y="429264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ا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14" descr="avatar88657_10"/>
          <p:cNvPicPr/>
          <p:nvPr/>
        </p:nvPicPr>
        <p:blipFill>
          <a:blip r:embed="rId3"/>
          <a:stretch/>
        </p:blipFill>
        <p:spPr>
          <a:xfrm>
            <a:off x="826920" y="549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r" rtl="1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 ماذا نسمي الاسم الذي لا يتم معناه إلا بوصله بجملة بعده</a:t>
            </a: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؟</a:t>
            </a:r>
            <a:br>
              <a:rPr sz="3800"/>
            </a:b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187280" y="1266840"/>
            <a:ext cx="4176720" cy="649440"/>
          </a:xfrm>
          <a:prstGeom prst="flowChartOnlineStorag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أجل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"/>
          <p:cNvSpPr/>
          <p:nvPr/>
        </p:nvSpPr>
        <p:spPr>
          <a:xfrm rot="10800000">
            <a:off x="5003640" y="1196640"/>
            <a:ext cx="3564000" cy="7192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أحب أمي الت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0" y="404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الاسم الموصو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132000" y="2421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 الجملة التي أتمت معنى الاسم الموصول ( التي )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71640" y="2421000"/>
            <a:ext cx="2158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ا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979640" y="31161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ذا نسمي الجملة التي تأتي بعد الاسم الموصول وتتم معناه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556000" y="378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جملة</a:t>
            </a:r>
            <a:r>
              <a:rPr b="1" lang="ar-SA" sz="2400" spc="-1" strike="noStrike">
                <a:solidFill>
                  <a:srgbClr val="0033cc"/>
                </a:solidFill>
                <a:latin typeface="Tahoma"/>
              </a:rPr>
              <a:t> صلة الموصول</a:t>
            </a: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6000" y="4869000"/>
            <a:ext cx="1512720" cy="825480"/>
          </a:xfrm>
          <a:prstGeom prst="rect">
            <a:avLst/>
          </a:prstGeom>
          <a:solidFill>
            <a:srgbClr val="ffa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c0c0"/>
                </a:solidFill>
                <a:latin typeface="Tahoma"/>
              </a:rPr>
              <a:t>أحب أم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61080" y="4869000"/>
            <a:ext cx="934920" cy="45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987640" y="4869000"/>
            <a:ext cx="18716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سهرت من أ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وبعد هذا الشرح الوافي ماذا تستنتج ؟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Cloud"/>
          <p:cNvSpPr/>
          <p:nvPr/>
        </p:nvSpPr>
        <p:spPr>
          <a:xfrm>
            <a:off x="611280" y="1197000"/>
            <a:ext cx="8064360" cy="3909960"/>
          </a:xfrm>
          <a:prstGeom prst="pi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99"/>
                </a:solidFill>
                <a:latin typeface="Tahoma"/>
                <a:cs typeface="Traditional Arabic"/>
              </a:rPr>
              <a:t>أستنتج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 الموصول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هو اسم لا يتم معناه إلا بجملة تأتي بعده تسمى صلة الموصو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al-anssari-d6a4dd62c1"/>
          <p:cNvPicPr/>
          <p:nvPr/>
        </p:nvPicPr>
        <p:blipFill>
          <a:blip r:embed="rId1"/>
          <a:stretch/>
        </p:blipFill>
        <p:spPr>
          <a:xfrm>
            <a:off x="7524720" y="4149720"/>
            <a:ext cx="1333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34364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أمثلة توضيحية </a:t>
            </a:r>
            <a:endParaRPr b="0" lang="en-US" sz="6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اميذ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ن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وا على الدراسة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ات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ا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ن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جارب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أجريت في المختبر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56000" y="1628640"/>
            <a:ext cx="41767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ة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ان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ذان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ا على الدراس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تان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تان 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ا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4500720" y="1557360"/>
            <a:ext cx="0" cy="47512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3040" y="404280"/>
            <a:ext cx="6870960" cy="119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5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ت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ذ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ت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ات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5076720" y="1989000"/>
            <a:ext cx="273528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59280" y="170028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 المذك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76360" y="2637000"/>
            <a:ext cx="28083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5219640" y="321300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5219640" y="386064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219640" y="458136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5219640" y="522936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87640" y="4349880"/>
            <a:ext cx="20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ذك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564000" y="36306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ؤن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492360" y="4941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إنا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92360" y="29811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ذك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763640" y="234936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ة المؤنثة ولجمع غير العاق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30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قاعدة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سم الموصول هو : اسم لايتم معناه إلا بجملة تأتي بعده ، وتسمى صلة الموصول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  للمفرد المذك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تي  للمفرد المؤنث ولجمع غير العاق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ذ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ت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ن  لجماعة الذكو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اتي  لجماعة الإناث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7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قويم</a:t>
            </a:r>
            <a:endParaRPr b="0" lang="en-US" sz="5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ستخرجُ الاسماء الموصولة فيما يأت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- اللهم أصلح لي ديني الذي هو عصمت أمري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- كبرت الشجرتان اللتان زرعتهم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- فاحت رائحة الأزهار التي بالحدي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- هؤلاء الفتيات اللاتي شاركن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- هؤلاء الطلاب الذين شاركوا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بقى اسم موصول لم نذكره في هذه الأمثلة من يذكره لنا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3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76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4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37:23Z</dcterms:created>
  <dc:creator>ריהאם</dc:creator>
  <dc:description/>
  <dc:language>en-US</dc:language>
  <cp:lastModifiedBy>User</cp:lastModifiedBy>
  <dcterms:modified xsi:type="dcterms:W3CDTF">2016-10-31T16:31:26Z</dcterms:modified>
  <cp:revision>39</cp:revision>
  <dc:subject>الإسم الموصول</dc:subject>
  <dc:title>قواعد اللغة العربية-الصف الثالث</dc:title>
</cp:coreProperties>
</file>